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46B5-84F7-4C08-AF51-7C8D458622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A32B-FE0E-4A88-8CF1-8ECB63EB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A490-0C2B-4461-9ACE-35AF6CC9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104D-6CAB-4806-8C1E-95BDF312A1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CC45-6034-4C22-826B-65EE1ECE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6468-9504-4336-93CA-CEC0FF0D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F81E-3327-4641-B858-6C01B7A7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9DA20-130F-4E97-AFD9-3A91ACFB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DAFC-2683-407B-A2FB-15910423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3070-344D-4F03-9A22-41F36AD0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B2EC-8268-49CD-944E-0D8D3E2D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38D8-015B-40A5-9E95-647FB3C6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e8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74e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8191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A75B-7468-45BC-B09C-0203404EE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62120" y="1014480"/>
            <a:ext cx="7089480" cy="77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52560" y="4800600"/>
            <a:ext cx="328320" cy="2000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86600" y="6583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uken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705360" y="3733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5714640" y="4114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098960"/>
            <a:ext cx="381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ustomized engineering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3419640"/>
            <a:ext cx="33530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e8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74e8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ATe European IBIS Summi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ebruary the 20th, 200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92560" y="3713040"/>
            <a:ext cx="3848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ATe 200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NIT Conference Center, La Defense, Fr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954680"/>
            <a:ext cx="5987880" cy="1903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84520" y="1803240"/>
            <a:ext cx="2133360" cy="50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01680" y="801720"/>
            <a:ext cx="1782720" cy="149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01680" y="954000"/>
            <a:ext cx="1782720" cy="37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63640" y="1168200"/>
            <a:ext cx="8191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00  WELCOME AND INTRODUCTIONS (Ralf Brü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10   IBIS QUALITY (R. Haller, SiSoft,  Eckhard Lenski,  Siemens AG, German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35   VERIFICATION OF IBIS MODELS (Hans Klos, Sintecs BV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00  IBIS MODEL DEVELOPMENT AND VALIDATION (not confirmed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hripad Annigeri, WiPro, Ind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25  SENSITIVITY ANALYSIS OF IBIS-PARAMETERS WITH HSPICE (M. Maurer,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50  BREAK (1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05  IBIS MODELS, CURRENT STATUS AND SOME NOTES ON IBIS4.0 Parameters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(Eckhard Lenski, 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30  IBIS AND EMI SCREENING TOOLS (Ralf Brue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50  A FREEWARE ENVIRONMENT FOR IC EMISSION SIMULA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ED ON ICEM AND IBIS (Etienne Sicard, INSA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2:15  LUNCH/DISCUSSION (4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52560" y="123192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00  THE BENEFITS OF MULTI-LINGUAL EXTENSIONS TO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Stephane Rousseau, Mentor Graphic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25  PARAMETRIC MODELS IN IBIS MULTILINGUAL FRAME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.G. Canavero, I.A. Maio, B. Ross*, I.S. Stievano Politecnoico di Torino, Italy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Teraspeed Consulting Group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Presented by I.S. Steivano, Politecnico di Tor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50   LUMPED SKIN EFFECT MODEL FOR PACKAGE LE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Ege Engin, Fraunhofer IZM/University of Paderbor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4:15    BREAK &amp; END OF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19:46Z</dcterms:created>
  <dc:creator>Ralf Bruening</dc:creator>
  <dc:description/>
  <dc:language>en-US</dc:language>
  <cp:lastModifiedBy>Bob Ross</cp:lastModifiedBy>
  <dcterms:modified xsi:type="dcterms:W3CDTF">2004-02-20T15:04:33Z</dcterms:modified>
  <cp:revision>48</cp:revision>
  <dc:subject>Lossy Transmission Line Analysis</dc:subject>
  <dc:title>DATe2004 PCB Symposium</dc:title>
</cp:coreProperties>
</file>