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7.jpeg" ContentType="image/jpe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88188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11929-012E-465B-A360-A69EEE22A7E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5A811A-B52D-4268-90C4-C6C0FCAFA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D75C2B-5C6C-4A7E-8573-E3DBF086F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90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1776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62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90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1776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5F3F90-79EE-475A-9961-FEADF40C80E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E83DC0-A93A-4476-A7F5-860B03DC9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9012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17760" y="152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62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9012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17760" y="36734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88006C-4493-4DA3-9CF4-7808F83F5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5C83C-81DA-499B-A457-6EBF3999D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6D598A-2B85-4359-88BF-DA247CCBE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1519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A333CE-3A88-42F7-91FE-C7D363CDE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A429E-7583-4639-B148-2BBF31C7E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4800" y="36734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F075B4-164E-4FE9-B703-A37A56680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6212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4800" y="152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62120" y="36734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58B11-6DD6-4F55-A889-57FA628B0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74e8f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274e8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212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274e8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5530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2819160" y="65530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7A2334-2769-455B-9AE7-AE7D067298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62120" y="1014480"/>
            <a:ext cx="7089480" cy="77760"/>
          </a:xfrm>
          <a:prstGeom prst="rect">
            <a:avLst/>
          </a:prstGeom>
          <a:ln w="0">
            <a:noFill/>
          </a:ln>
        </p:spPr>
      </p:pic>
      <p:pic>
        <p:nvPicPr>
          <p:cNvPr id="5" name="" descr=""/>
          <p:cNvPicPr/>
          <p:nvPr/>
        </p:nvPicPr>
        <p:blipFill>
          <a:blip r:embed="rId4"/>
          <a:stretch/>
        </p:blipFill>
        <p:spPr>
          <a:xfrm>
            <a:off x="52560" y="4800600"/>
            <a:ext cx="328320" cy="200016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7086600" y="65833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©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Zuken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760" y="456840"/>
            <a:ext cx="434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3"/>
          </p:nvPr>
        </p:nvSpPr>
        <p:spPr>
          <a:xfrm>
            <a:off x="6705360" y="3733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4"/>
          </p:nvPr>
        </p:nvSpPr>
        <p:spPr>
          <a:xfrm>
            <a:off x="5714640" y="4114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4098960"/>
            <a:ext cx="38102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Arial"/>
              </a:rPr>
              <a:t>customized engineering solution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3"/>
          <a:stretch/>
        </p:blipFill>
        <p:spPr>
          <a:xfrm>
            <a:off x="380880" y="3419640"/>
            <a:ext cx="3353040" cy="7142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57200" y="4114800"/>
            <a:ext cx="82296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74e8f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274e8f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447560" y="456840"/>
            <a:ext cx="73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DATe European IBIS Summit</a:t>
            </a:r>
            <a:br>
              <a:rPr sz="2800"/>
            </a:br>
            <a:r>
              <a:rPr b="1" lang="de-DE" sz="2800" spc="-1" strike="noStrike">
                <a:solidFill>
                  <a:srgbClr val="ffffff"/>
                </a:solidFill>
                <a:latin typeface="Arial"/>
              </a:rPr>
              <a:t>February the 20th, 2004</a:t>
            </a:r>
            <a:endParaRPr b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092560" y="3713040"/>
            <a:ext cx="3848400" cy="14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DATe 2004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ffffff"/>
                </a:solidFill>
                <a:latin typeface="Arial"/>
              </a:rPr>
              <a:t>CNIT Conference Center, La Defense, France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4954680"/>
            <a:ext cx="5987880" cy="190332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1784520" y="1803240"/>
            <a:ext cx="2133360" cy="508320"/>
          </a:xfrm>
          <a:prstGeom prst="rect">
            <a:avLst/>
          </a:prstGeom>
          <a:ln w="0">
            <a:noFill/>
          </a:ln>
        </p:spPr>
      </p:pic>
      <p:pic>
        <p:nvPicPr>
          <p:cNvPr id="90" name="" descr=""/>
          <p:cNvPicPr/>
          <p:nvPr/>
        </p:nvPicPr>
        <p:blipFill>
          <a:blip r:embed="rId4"/>
          <a:stretch/>
        </p:blipFill>
        <p:spPr>
          <a:xfrm>
            <a:off x="301680" y="801720"/>
            <a:ext cx="1782720" cy="14904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5"/>
          <a:stretch/>
        </p:blipFill>
        <p:spPr>
          <a:xfrm>
            <a:off x="301680" y="954000"/>
            <a:ext cx="1782720" cy="378000"/>
          </a:xfrm>
          <a:prstGeom prst="rect">
            <a:avLst/>
          </a:prstGeom>
          <a:ln w="0">
            <a:noFill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863640" y="1168200"/>
            <a:ext cx="819144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9:00  WELCOME AND INTRODUCTIONS (Ralf Brüning, Zuken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9:10   IBIS QUALITY (R. Haller, SiSoft,  Eckhard Lenski,  Siemens AG, Germany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9:35   VERIFICATION OF IBIS MODELS (Hans Klos, Sintecs BV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0:00  IBIS MODEL DEVELOPMENT AND VALIDATION (not confirmed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hripad Annigeri, WiPro, India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0:25  SENSITIVITY ANALYSIS OF IBIS-PARAMETERS WITH HSPICE (M. Maurer,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Siemens AG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0:50  BREAK (15 Minute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1:05  IBIS MODELS, CURRENT STATUS AND SOME NOTES ON IBIS4.0 Parameters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(Eckhard Lenski, Siemens AG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1:30  IBIS AND EMI SCREENING TOOLS (Ralf Bruening, Zuken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1:50  A FREEWARE ENVIRONMENT FOR IC EMISSION SIMULATIONS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BASED ON ICEM AND IBIS (Etienne Sicard, INSA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500" spc="-1" strike="noStrike">
                <a:solidFill>
                  <a:srgbClr val="000000"/>
                </a:solidFill>
                <a:latin typeface="Arial"/>
              </a:rPr>
              <a:t>12:15  LUNCH/DISCUSSION (45 Minutes)</a:t>
            </a: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15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4e8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274e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952560" y="1231920"/>
            <a:ext cx="81914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3:00  THE BENEFITS OF MULTI-LINGUAL EXTENSIONS TO IBI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Stephane Rousseau, Mentor Graphics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3:25  PARAMETRIC MODELS IN IBIS MULTILINGUAL FRAMEWORK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F.G. Canavero, I.A. Maio, B. Ross*, I.S. Stievano Politecnoico di Torino, Italy,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*Teraspeed Consulting Group, U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Presented by I.S. Steivano, Politecnico di Torino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3:50   LUMPED SKIN EFFECT MODEL FOR PACKAGE LEAD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(Ege Engin, Fraunhofer IZM/University of Paderborn)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Arial"/>
              </a:rPr>
              <a:t>14:15    BREAK &amp; END OF MEETING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76212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74e8f"/>
                </a:solidFill>
                <a:latin typeface="Arial"/>
              </a:rPr>
              <a:t>Agenda</a:t>
            </a:r>
            <a:endParaRPr b="0" lang="en-US" sz="3200" spc="-1" strike="noStrike">
              <a:solidFill>
                <a:srgbClr val="274e8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06T11:19:46Z</dcterms:created>
  <dc:creator>Ralf Bruening</dc:creator>
  <dc:description/>
  <dc:language>en-US</dc:language>
  <cp:lastModifiedBy>Bob Ross</cp:lastModifiedBy>
  <dcterms:modified xsi:type="dcterms:W3CDTF">2004-02-20T15:04:33Z</dcterms:modified>
  <cp:revision>48</cp:revision>
  <dc:subject>Lossy Transmission Line Analysis</dc:subject>
  <dc:title>DATe2004 PCB Symposium</dc:title>
</cp:coreProperties>
</file>